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DE1-1B0D-4CCF-9D2D-3DAC6567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283-419B-42AE-9B90-BEEC6A49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7DF-FB40-40B1-8396-DAA5B950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434-E035-437E-B303-8954CCCA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A867-4652-4E7A-99B6-F6F05B6F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2AD0-B5D2-496C-8156-0DA66F4A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D3A1-C261-441B-AD61-8945391E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9616-049B-4116-AEC3-83BB7A40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C773-87B1-4C05-BA55-367DB88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ECC7-E7DE-4743-A43C-9C761C0C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6907-34A2-480F-B733-17FCE4F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E3C-DA90-4192-81C3-27022E48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AB3E-AC59-44D0-98BC-29ACB4E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2ABC-D3FD-44ED-A255-54EEA24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94D3-3DA7-4748-B7FE-AF4609D3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4F54-6B94-4494-9BE6-F10EB2F5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99DD-3FC4-40C0-96E6-45480CB1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758-D7C9-4149-B667-AC37533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BFB-C137-4798-A3E9-A7BF0CF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2E0-087E-41D5-A6C2-B7A7F9B4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8B2-35AB-4626-9D86-885954FA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A37-C8D3-48C8-8F63-1F5999F7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FB1-B257-4519-AF5E-318A687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847-778C-45D5-A9B0-251DD2FC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4929-9D3D-4F5B-8271-97EC6158E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84DE-FA21-4BAC-8ED2-B889D052A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2720" y="5335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0666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61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   As   jazidas,   minas   e   demais  recursos minerais  e  os  potenciais  de  energia  hidráulica  constituem propriedade distinta da do solo para o efeito de exploração ou  aproveitamento industrial.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1º -   A  exploração   e  o  aproveitamento  das  jazidas, minas e demais recursos minerais e dos potenciais de energia hidráulica dependem de autorização ou concessão federal, na forma   da   lei,   dada   exclusivamente   a   brasileiros   ou   a sociedades organizadas no País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143000"/>
            <a:ext cx="855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2º - É   assegurada    ao     proprietário   do   solo  a, participação  nos  resultados,   da  lavra;  quanto às jazidas e minas  cuja  exploração  constituir  monopólio  da União, a lei regulará a forma da indenização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3º - A participação referida no parágrafo anterior será igual ao dízimo do imposto único sobre minerais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§ 4º - Não dependerá de autorização ou concessão o aproveitamento de energia hidráulica de potência reduzida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na Salett</cp:lastModifiedBy>
  <dcterms:modified xsi:type="dcterms:W3CDTF">2004-08-10T21:33:53Z</dcterms:modified>
  <cp:revision>76</cp:revision>
  <dc:subject/>
  <dc:title>Apresentação do PowerPoint</dc:title>
</cp:coreProperties>
</file>